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0D4-0627-4636-B6C0-63A796AB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7E1-D44E-4190-BACB-14662B2D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2D8-F092-4456-B56C-81B9349E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19A-8CC0-410C-B597-DC9FA052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0A49-B3F5-4B94-A3B2-DCC895D7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DB2-085C-42DC-9B0B-23A6736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94D-E7D9-4AF3-9DDA-84311CE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2F0B-51DB-430B-A111-C8518EC1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8F66-7D59-4D30-833A-89CBCF4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20BF-25B9-4736-AFD6-9DA5D00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8394-FE6F-4FDC-B1E7-61FB4F1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DA5-EF85-4682-AB6C-A1F48C1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0FB5-D1C2-4521-9EC7-E4142C1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52E6-CEF4-4DA9-8F89-7875114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34F-49C7-438E-9A9D-DDCBC8D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41D8-167F-4FB8-A4A6-5B9B4B41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FA9-019F-4A11-A1A3-EF4C8337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76C-C798-49FE-A314-E715B61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259-B3E0-4DE2-96E9-6653B5C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CCB-43D8-432C-8FBD-9208FBD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103-3FBA-4017-8ADC-FAC31DD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455-760C-4E5A-9458-180E734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F40-9BFF-4AB2-82D1-7C18FED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9E1-EE3C-4A19-9AA7-62C4001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192-441A-4E58-971D-54E610A7D8D3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0758-5F02-4871-A844-DB09DC6CEA4E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TTI, User</cp:lastModifiedBy>
  <dcterms:modified xsi:type="dcterms:W3CDTF">2003-07-11T21:07:41Z</dcterms:modified>
  <cp:revision>11</cp:revision>
  <dc:subject/>
  <dc:title>PowerPoint Presentation</dc:title>
</cp:coreProperties>
</file>